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start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BD41-A34C-4855-8F74-D3EE6D779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09F0-3915-4DBC-9A1E-F2C75B52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3767D-6E4C-4457-8B45-1895BBE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859E7C-5218-44BC-AD0A-24B891B3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B4ECC8-431A-44DE-80F7-4F9D1A5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41D31-067B-485F-B510-C3CDF84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0B1B6-1EC8-49B2-8BE0-F81EA8C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1F9ACA-B506-43BD-945F-55F3808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71F16-CD23-4424-9E8C-B59C6AE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623868-BFC1-4D29-B67D-F16479B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1539A-E992-43F6-8A33-76F4AD2F9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E4EA-5072-4C37-8660-750FBB548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E916-83BB-4C16-B4BC-71C7027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5D86-F283-4C5F-9A67-DCB94FE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5950-52F3-420B-BF71-D8BFB27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9D17-CD17-4F8B-839C-31DB047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0BE5-6C00-47EB-8983-E1722FF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0CC4-4302-42EA-BFD5-9F749294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ACC7-615B-4EF0-AAB2-533E3487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4A3D-BCAA-4596-BDC8-A53318D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10AE-92A3-4787-B69F-AFA214F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A1FE-392A-4E67-B284-5580CA62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1BEB-238B-4885-95B5-8E19EE1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C792-2A24-4FD7-AE05-39892DC7C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D39A-8C0A-4A2E-A7B3-581062261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65850-E629-44E7-ACAE-0DE5C78D2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A921D-3D0B-4219-B25C-AA451EF9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53A32-2B52-4C4C-96EE-523D3A1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6A5B3-D123-4451-AE5B-16B1D5C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9CA0FA-AAC6-40F7-981B-B7B974FD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04B71-A280-4FE4-89CE-4FCFD7EC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3B054-4179-493D-80D9-4FEC38CA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C2A01-C0BF-4773-9A45-122D2E1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80A6BE-5640-4632-B4CC-A3B1F52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0235-DB63-47AD-A980-34A3D002C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E682F-3CF3-4825-AD0B-A9F0A4B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715F2-4415-4A35-9160-2C80583C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A1A2B-8F86-4E75-809A-BF3DD0AA6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31D6E-6263-493B-A025-C2BD515B1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F739B-F360-4957-BF02-865BC47F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E3CD1-A573-4C0B-9224-913DA8A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D7057-667F-4771-B5E4-5EE4A10E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0D992-60C2-415C-A245-32F47B08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B8124-F83E-4BEA-9189-15C82DD2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46DB6-D1D0-4F2A-AB5F-1D01100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D6E93-3FA5-4708-B571-0E36AAA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1D1C9-93B0-4EAE-BE02-C542C14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ACD20-2175-4CE9-BD80-27D361E6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C15B1-23C3-43B0-BB0A-3233269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0B565-DA21-49A1-8CA7-A7AB4B6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1804F-C823-4A1A-9E6C-F0E3C43B9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9B0A-FA46-4A3D-9C0D-130D0539C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19D8E-AACB-4A4A-9986-210327D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12CB-97C2-4D17-B52D-567AB6CC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5B4D-0F12-4149-852B-D9E438F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89F1A-1A8B-4C9E-809B-50124CA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EF0AC-655B-49F3-A81F-65B4F5F5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12DA-BAB2-4956-BE7F-A66E2796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1976D-0575-485C-955A-E0A52ADD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76474-81CE-4C7E-B25F-D838B593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BCC82-D23A-465E-A0B9-D082612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98EC-3EC9-4FEB-8F00-CDBE83E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FB42-6241-4F8D-A21D-602BFBA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4D472-384B-4491-8987-D7DCFAF2D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0D0746-37F0-4AF5-8BDE-C6F74B79F4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466D32-F076-4DCC-B5EB-C272B71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6A5B5-185F-4A72-A93F-BFB6512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D786-7230-490E-8DF4-D3B049B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D7B87-233C-4A10-AEAD-7323391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582DD1-CD49-45BA-B105-E842593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8C5FB0-0150-4592-9B68-A7D6B481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322659-85B9-4C15-B4FC-CEFD7054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9DB38F-40FF-4262-B336-D912D03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321EE3-4F80-4C5D-9DEC-3B3C8123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BFA00F-CF97-44EF-8F93-F1697C98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D1651-7480-4A8E-BC40-1183459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3C00F-F512-4F88-8D2E-8E5EFC3CF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8E0132-73C3-4A14-9070-595BA5916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982C-A298-44EF-A77A-E435B554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469D8E-6E71-4E9C-B4DB-08394036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2D0FB8-4F28-4C77-99AF-736A06A3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1903FF-7F6A-43EB-AFB5-F794FB0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9ED3B1-97CE-419A-8809-EEF53264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A99298-ACB0-4E48-81A4-86D62EE8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5A399A-B75F-4A7F-AF9C-65C9973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6D5C38-226F-44B0-94DD-375FC3A6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2C7157-86F2-41B6-9C56-5D0977A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E28FC9-21F4-447E-B446-AA17B5ED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782BA1-5EF4-4549-9107-02317F0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C5B54-E9C4-40B0-BB31-BB1910E6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926D7-F266-42F5-833A-FA7456772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571FA-8A22-4155-8F85-81D2FA51A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31907-8E89-4CC7-8639-F09C646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41916-0A39-49E3-ADDF-371E34F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EA339-629C-4493-923C-36FF9E2F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941D7-4BD9-44CA-9C05-F3C4FF93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DC256-BD08-4465-A205-2EED15E2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BFA2C-FEB5-4EEA-98E8-455B2584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4E48-223B-4F80-AE90-7D71797E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D282D-969D-45AA-AC74-5A8B3D0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2B3C4-6DE0-4D43-B4E8-D2EAD3C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16C3-A409-42CB-8E76-93CDC1DF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F487E-53BA-45B4-A434-BAE6939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1B85D-E9F3-42B9-A554-C7F16B4FB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1CFEF-60B1-42C8-A95C-8210B15A2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2DDA9-1EAA-4ACB-B35F-A3236A63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691AD1-8DF4-4C18-B10D-BDD2942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3D772-86F1-48C3-B9B2-88D3F900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5974BE-DF23-4957-8AA3-40D6A72D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B54E23-34BA-491F-AB02-65C5A9C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134AEC-086F-4FF9-81C7-0637DE0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0084-86C1-4A18-8C87-5311BF7E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9C337-0DA5-49DD-88FA-EBA3129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74FC42-6814-4E36-B43D-899B701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1D7B2B-E43F-4C86-8739-2EEAAA6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974C9B-F3D6-4CAF-9106-F12C83DB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9E7E6E-2DEB-483D-9883-B773AD7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41EF8D-CDBC-4799-980D-723BABF83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E2FB22-FC29-43C3-8FA7-01F2D0780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A0F0DE-9D61-458F-8988-5944856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3EB50E-271E-41A1-8892-FFF9C97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AC4D8F-1847-436F-987C-65738E80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69BA4A-C9E2-45AC-B87D-B6D9929C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0BCB2-6C0F-4B44-B95D-3D72987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C72EF9-AB0C-4C16-94CE-AA2B5171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355DDD-EF1F-4C17-A7B5-E22E39C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8783BE-B5BA-4A31-AE8E-8082FF64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A89AB2-CADD-4952-8251-EAE5DE00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64A441-8154-4938-AAB2-43D5C373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F0F4F2-3CCC-4CEC-BA90-D38982BA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72CEA1-0471-4AAD-BD04-B7A61E14E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398DF-D4B8-4E34-9B63-E7675C47A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D84CA-1050-47ED-9E97-0ED62195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5D7EE-18E8-4188-AC27-4B0AD30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4627-1D04-47A8-81B9-77DC9851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5B6F9-D2C6-426B-9546-A4F21FE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37D80-AE0C-42FE-9061-0B8E6F93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ED02-52B1-427A-8331-A88DBA3F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0174B-2DFF-4812-86CA-B789697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88842-53D0-46CB-8086-58464DF5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5DA0B-0FB9-47FF-8B55-39E160D2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FA385-70F3-4756-87D2-02C20645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CAEC9-6C31-42CC-A6E6-A72C1E3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1FDF4-59EA-4A8B-97AB-4DA063797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21CF1B-552A-4E24-959D-AD9B98D92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356D8-F077-4AAD-BDC2-C76F7AB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DC0E4A-36F3-4ED2-9D9C-9DCB7CD9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3AD34B-C983-4390-8910-F8D4955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5ED9B1-7C0D-4572-A609-8A416FAD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D3F70B-6DED-454F-963C-A608849E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960981-2F8C-48A2-9988-F711B03A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623E6D-4A6A-4DF9-95CE-D635B43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FD6166-B2CB-49D2-850E-11C0A00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A44A51-E3A1-4595-9C65-DB3245F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EF13C0-E6F6-400F-A619-2B465AD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017A6F-5C17-4B0F-BF21-6C09A9D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0B5B3-E63B-4552-8067-3777E4660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2B3676-D424-41B6-9C99-A2AF5D207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93D0E4-DCC6-4B10-9BA9-5996A53BB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71432A-C093-4466-A067-D4142DA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956ECB-9888-4218-9A95-D66437F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EBE7F4-4090-46B8-B57E-EF133D8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E9B2A9-A12A-44D1-8B09-49FCC7F5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91DC46-2194-42FD-940F-D048BA5C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D27EE-EFA8-4E55-B596-66A867D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E6D87B-E0C0-4FCA-8C18-24DE9BA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4B3948-C562-4676-BE2E-EE0C506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B11A0-ADA6-496F-B678-7A8F7553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3771C6-4A31-4A6C-A029-57169C49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8DCDA6-EBF7-4CEE-9C63-CD168CF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A53EBA-71A4-4DFC-9BD3-72C60A6FB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F99B1-D622-414A-8801-7D42843F5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A7B69-E625-491C-9928-678D8D0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F24BF-5520-4B26-B2C8-598B654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BCAC9-904C-4F55-B35F-7F41B27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29B67-751E-4D40-9A58-8C36059D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2327E-105E-4B38-975E-5CC024AC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A37BD-AD28-4C6D-86B7-1E2F71E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590B9-A84B-48AA-A94D-BB39977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D4F09-A074-4FDA-98E7-A9F43BC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25CCE-AD79-4DE9-8FB0-2EC0CAA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E3C78-18B2-433F-9723-FCC3726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16F4D-3BEB-4D9A-823D-D43E048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F1487-CCD6-4896-A93C-5B6857E72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A79894-718A-4641-B07E-3848FDD4D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983338-63C7-4D65-B49C-4A04B00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8E2852-3D93-4CC2-AB8A-4101907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CFAAFB-F813-4C0B-AF5E-78AD2522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082A7B-08FF-401F-B111-730D678C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57687-5A98-4CD2-A11A-BBAFD43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E54074-C9DF-4288-82CF-EAA193CC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77D558-C94A-4E78-BE90-F70157F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0802C5-23B2-418A-AC6F-4FBC0BF0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F70C8D-2989-4825-BD1D-628FD75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BEBBCE-16CC-40A6-907D-7709D37D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1CB413-DF8C-4EFA-8CBA-8178CAA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5DA7FC-8599-429F-8F1D-0E1C21F386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8098BC-E765-4EF4-B170-BD3C58F18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6DF309-3DFA-4819-B17B-59942ACA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B13793-1628-40E9-BD2D-39D5768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E4257-729D-4436-A2F6-18B98BF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6B55CD-B3AC-48C7-88A0-D8834AEC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5FA83E-1869-4C4A-B6CA-4119D974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C32086-C204-496E-A3CF-1EBB6337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AC692B-B44F-4E83-82B3-25E761B9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31C050-BEB9-4D9D-A85E-96ADB9C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FF392A-1DCC-4581-98D4-26A1599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9DA6F7-616E-43DB-83A3-A00AB73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735993-82E2-4A78-996F-8206A78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F6BCDF-A636-42B3-BB9F-EF94E7C8D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32DE6-7C6F-4411-B068-AC51E68D2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DE5EA-3C1A-4547-9E44-582648E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26619-6C58-46E3-AB09-6411D2A9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CAFA3-F207-4280-887D-C7A4CB9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17E3B-E6EA-47D0-A2DC-9F4869E4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532AB-AAAF-4F37-AD1B-2C72651A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1C56D-058F-4F9E-A691-C5F4E3CD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A29CC-9282-49CB-ACCB-9CB4C5C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6F698-29E7-49FB-A4D7-C07AEFB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F418D-384C-47F8-AE91-C303E22D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D69F8-AAAA-40BD-AB25-2561678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EA3A4-3826-4B02-A316-CDDB4E4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FE62-0387-4716-8514-34EE1C7F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12802-DCEA-43A6-ADFF-875D82A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774C8-522E-437D-BCC7-99C58D7D6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CEC15-4BF8-4FBC-B77C-54DD4B2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4A887-B4AB-4045-AEFE-E0B17C2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05489-01AF-487E-BFC1-23705B0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0C034-102B-41D8-A261-15D9470D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C1B08-6EDD-4EEF-A27F-AA0DF95F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27409-AD9F-4DA4-AA80-147725D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AC268-82CF-45DD-908D-484B165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EC69D-152B-4A7C-A7E3-0B225B3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73292-F787-49B7-B762-88552DB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231AC-6666-489B-BFF0-87BBE8C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01A91-C609-4603-B831-3D4C0F5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541D7-CA6F-4CDD-8CDA-0495062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94357-AF96-49C8-8F6A-F5D11A43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554BE-8EB6-4FA6-8E55-B5F7C02C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3E64C-9023-49AF-B8C7-15BF1C6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E6E87-620C-4775-AE16-EA359DA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7A2B4-72E2-4DC7-BEAC-E4485CE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40625-A001-4014-95F0-431D8B2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357FB-DEF2-457A-AD56-1801C28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E67DF-97DD-4019-87E6-2F00AF49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432E1-70BB-433D-A56E-59465EA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6F010-4081-40EA-915A-A6A03C7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4823C-3419-4901-B4F3-FE14299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5A049-3EDA-4592-99FE-BE2153E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9654F-0467-40DC-A122-471EFF56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A835D-E5A7-4892-87A7-132450C4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3FF79-4A1A-48CD-B707-82C187E5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A3FB5-0EB3-4FC5-B0C3-F30349B9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90D26-CE9C-485C-82E9-3E4362D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644A36-4789-41D8-AA6A-B96CE608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C5C40-2882-4E86-A77C-361939D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5E769-3B73-45E2-B583-816346A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245C9-08D6-44FA-9F81-E3ABF5AB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7EEBA-49FB-4DE5-B8CD-B3339B4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D08D3-4D3F-431A-B3E4-F3AA8E29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2CD98-785F-4F38-8E7D-B63A0CD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F0E5D-37AF-4F74-98B6-27F9B5F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22CED-583A-42D4-841F-1738E6B4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5C48E-E261-452A-BFEF-04D4927A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CB2DE-41B1-42D4-9E4E-E3769FD8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D7E12-64F3-43C7-8049-B98D2DB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BA6C4-0C61-4CA3-A1BD-7363D15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F1874-A808-4FFF-AFB3-3DB0736F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FCF70-40CE-4E50-8A07-50AFD61B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63E8C-CBAA-46BF-A8CA-A2F2408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FD90B-CD2A-4899-AEF7-083397E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BC3F9-EA76-4D51-BB14-1791BF1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E16FC-1F83-447C-B003-D56B13B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B59E2-56C9-41DA-965F-9344A63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5E2F4-A754-410F-B10A-2E95054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6C0F2-42A0-4AE7-895D-F54AE0F0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F120F-CC4A-491E-8885-A0088B55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E2529-FD12-493D-9284-C1682187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DD776-CB4E-4C38-A47E-CE347F45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00DB31-A671-4CAF-8F99-B7BF7167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561A2-5B5A-4787-8E5C-3FA9AADB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2F594-C9BD-4B7C-BA59-A37C997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254BC-BAC3-4468-A47F-05C4219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87B73-9033-4DD0-A781-9C4C7A0A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2B355D-63DE-4481-BE65-23B5F56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C49F7C-2C57-4069-BE1B-1B8E2CA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29D579-8FD1-4B81-BA80-F9F67EB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40C01A-FF57-40FC-B532-64E68DA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F832B-E363-4288-9F00-905E93DB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27F71-9194-4210-B1E8-FA0DCFD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82E2ED-FE98-4773-9BF4-BC3E162F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D50D89-88DE-4177-9AAD-3D742474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895284-48D8-4853-9B61-B2646156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9CE8A-0FAB-4A2F-8A51-CD1B207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E549A-66AA-4135-AED5-3CE59A5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321608-795D-4683-85D7-3E3FB9E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F5BE5-7A81-449B-993C-BC169C4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593D4A-31A8-4B22-9811-6D39922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C8DF34-B031-4F98-B449-C949582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E53C0B-1E87-43CA-A66A-14B552D9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28DD-FC96-477F-8AA9-467671773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A303B-3DFD-45D9-854D-49E4705E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CCCA9-662F-4F08-9DE0-847780E0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532C3-1F9E-40F0-8E0E-7995431D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C45233-EFAF-4870-9494-17BB4E22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F6B08-BA23-4502-91C5-4B61386C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FDC6D-C184-4D12-A5DF-F9D5C02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10DE54-F7A2-443D-BD56-836AE95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D5E4E-5920-4C14-8BF0-F4225924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DB356C-1B84-4ACB-B707-D047F51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EE0F94-E3BE-483C-96E6-4E40BEA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7548-F57D-453A-90CA-E9A1031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8E909C-2CA0-4804-9438-44ED341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F29D5-9C41-4FB0-AF29-6CF954D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775EE-8559-4C28-8AB4-4211C3BE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F917C-0B0F-4338-AB02-C329974A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BD8343-CB09-4671-BA68-ADDD38D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40EF2-CE13-4685-A3FB-E625302E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A83ED-4B76-4578-A470-07B36A5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5A6A09-8FB7-40CC-AAE6-F5C4B812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3AA4F8-FBED-451E-A4C2-7D675344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CDA0F-EDBF-4E7F-9352-F8DAD63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DD4A-B9BD-4012-A51B-EBC07FB3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EC254-41AB-4EAE-9BF5-D1E079E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E2BC1-8E17-4325-8D9A-00204A2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13B306-2A51-4536-B006-714D365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E1414-CD0B-4926-8361-C0A93FD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43603B-471E-48D4-B557-30DEA5B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4F69A9-9A9F-452B-AFCB-28BB9A0D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1D3487-1CBF-48DF-9383-477F4EE7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843023-EC3E-4CFC-9470-23399B0F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2590E8-634F-44EC-9D3A-E5648FC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91C78E-9529-49F6-8856-B1BB0656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80BD-FEB3-4C2E-B93C-BBA5F6F4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93F6-3297-4B8F-9B6C-8689FE0F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FC514A-0CFA-4E75-B87F-91D95684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B79641-8939-4032-86C6-020FA9C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FC6BA-B32E-4B42-B013-FF069E6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24F3A2-EF28-454E-9511-58E0F03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26F63-DE22-4593-8A9D-7BC7F20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35933-3400-43EB-8EBE-7E27F31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0D61D-8EF1-4689-B4FA-08A3535D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46612-70DD-4CBA-A314-13814ECF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8BADF5-9C74-43D2-BD24-9581FF96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9FEF84-EC93-4EE4-8FAF-3982918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CD70-E652-4181-A68B-F6058ADB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F7199D-53B0-4D7E-882C-76A6725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A7B256-666E-47DB-A9BE-5583D06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B5FEC0-A9A0-4A25-8633-E198F663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299394-2B7D-44C3-A626-9F53930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095F7-3FFB-4E15-949A-CE8FC2D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B52961-1DF4-40E1-B932-FE4BEA7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59403E-490B-4696-B8EF-2468779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AE4300-E8D6-47FA-BA06-7CB3D33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1D913-FFCB-4DF9-BD71-29FCA81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CA788C-CD48-4995-A033-49117298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2818-FF7D-464E-BD2D-9F8ACFCD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2640F5-BCE6-4FA7-BFE7-4CEBC39F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638119-C278-487F-9647-7029221C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ADDB3-AD4B-47DF-A75B-421214A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D357A-546F-42A4-AC2E-6E874A1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B934AE-6A46-47B8-BC9E-ABE0DE67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03476A-0B06-45C0-95F6-10987AF6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F676D8-B178-47CC-AC3F-423439A1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3A1C7F-A127-4EAE-B086-12CDB34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524E0A-97E3-417A-BE59-2105C46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30D184-3037-40D0-84F1-8D36D8F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052E-B10A-40F5-94D2-9E29B81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742A77-E4A7-4596-A375-82E8B10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430798-2322-4E1B-9461-9ABB9329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B96F1B-6CB8-4C28-AD40-A0BEBAE1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E9A9-CEDA-49E3-ABEB-6766EB8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E8CE-E6B8-4B84-854F-BAA9E36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ED4C-9755-4852-88E5-94CEF25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FB26-43C5-4F52-ABA4-A646D24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DA3A-5E97-45AC-B032-B9790028A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D70D3-41C5-4A2B-9845-3AE132B1E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DFFB-712E-4247-A9F9-85CFA6F2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B892D-5560-489C-A263-002F08A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C67E3-B29A-487B-BADC-AEF4076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E1CAF-0923-4AC0-BD72-2939DAB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D429D-ACFB-446F-BA7E-D96ED626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B6385-72B6-4170-940D-C3F9743F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D2D3A-6E46-4EF0-9E91-C487ED1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647EA-EA35-4A81-B8EF-3EE6905E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3B325-29C0-4BF1-AC84-17F42E3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F21D9-0274-4460-9E44-CC3A484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EA469-041E-4162-A691-9CF6411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2449-FC06-4F44-8C57-5F123E04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DBD1C-BC79-4CFF-ACF4-833058748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0D910-905B-495A-A2AB-B76079FA2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287A1-8EE9-4897-9D35-7B13CAB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999B0-FCE8-4F95-AB0C-F26F62C2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0B8FE-6359-4F5E-8767-47C3C9F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7499C-6E1D-48B0-9A3E-4333174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2404A-FD3B-47F9-A4D6-26F927C7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A7CBE-CB69-4FB6-8505-FAEC76F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3C1D4-ECED-42F9-BE52-4DB8B9E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A74F0-9D41-440B-BF54-918C2629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D1DE-CE01-49CF-9C29-CCDEEA1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5548D-ADF9-42B8-B963-5C9B984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44B60-1BFE-46FD-AA12-53062F6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A2D88-40E4-476A-85BE-C3E4733CC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B2D5-06CE-40AC-8D52-E584DFE2C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7682-5BC0-43A0-B0CB-8222ECA8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73E7-1EB2-4E38-BCB2-751EE2C4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32AE-85EE-4158-842F-25D56ABC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B25C-EFCB-43AC-AE2F-208D0AEE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BED8-1EFF-46B4-BBD5-D56B71DC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8AA8-17F4-4223-8917-8FCB411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40A8-8A1D-4DB7-965D-BC999B8C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D326-B30D-4EDF-BC17-7CA0C1E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3F84-CCE6-47BA-9473-38A3746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907D-8A83-4027-9FED-0B3E0DE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0AE1-4D0E-4F05-83E8-94CD7E6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B783-10B5-4C89-B6AB-B7658474B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D1C3B-3D47-48A4-AC95-2EC7668ED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B204D-1F74-4D7C-A350-41268AC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EACA2-03D0-4146-9BDD-9BCEA70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4BA4C-442F-4FAB-BB86-773CFD9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A3EF7-54A2-428C-991B-FC11E2E0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46B7-6D18-48D3-B424-1C1A3AAB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6E11F-7BD4-41D4-99DB-983C20CB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6311E-0C7C-41B2-AA07-EC2089E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337AA-DC4E-4E3C-A085-D31BB1AE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1A68C-17FC-47B1-8769-23D057C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B3F14-27AA-446F-8FFF-3DC1B04D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16EDB-EF28-416A-8B18-B0EFAAE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A37DB-207E-4337-9CE0-381FFF442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164B3-0E88-4D13-A056-4071B7E03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523E3-6205-4DE0-9971-82E2FC3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16AA50-43B9-4796-9DF1-9E52BF1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3AEE-5BB1-4A81-8C07-B970B3BF0F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DC0-532C-4332-B91E-E951194EE58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D00-28B9-4900-97F1-D0AC897EE5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9F8A-9608-4EA4-BE94-9841900546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1C7-64AC-4E4D-809F-CD62CD191B7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CBC-912B-4480-9CE9-A16EB25F4D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9F3-286B-4788-995E-EEE6DAE78D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2C06-0F7B-423A-BCF4-84493E0616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3C9-7C3D-41A7-9F29-C65680B4E0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B712-FC9C-4AF2-9EB9-E6F9F12E7F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FEF-24E8-4DE6-AA14-F3B987E919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7F0-8E2E-42B5-BDA5-23E6A855770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3F4-62A6-4CB2-84ED-3BF9A5D6956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4005-9B73-45E6-93B9-393547D2444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221-2858-4FB6-A3A3-F65B6CE6A9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573C-779C-46A4-9150-CDD0BB83C4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76B-981E-4A08-8938-C1B1281C07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30E2-D16D-4AFE-8012-1C56C779651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2F1-4BBC-48C2-B1D8-07594C793CF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0F2-73F3-4D64-95E0-2ED3D201394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BA9-6BEA-4C42-BFB8-86DDD9A9882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AB7-12A7-42F5-85DA-1C9F10C873B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DCB-98FC-4436-B4E6-856AA8F4A57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681-1FCB-44BC-AFAA-6E8D4BE556B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B3A-069E-4649-8D4F-7C8D9EF4E11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FB1-4C75-4253-BADC-EEBB825B592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5557-502D-4644-B4FC-9B0F0592FC2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6396-516F-475F-A4D6-4D23BA95495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ABB5-0706-46DC-8BBD-B08834009FF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D5EC-1EFB-452B-8696-72FC6673245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AF9-6948-4503-9599-29CE0004CE2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062-D83E-474F-BAF9-FBD09219D9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D5C-69B4-4660-AB0F-AC04A904333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FC4F-2329-4AB6-B2D1-500D7877A3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AE36-04E0-4948-8D4F-F8848B32240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245-94D1-43FA-8F5D-F1AB11654A2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扇形统计图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826920" y="22050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扇形统计图的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运用知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"/>
          <p:cNvSpPr/>
          <p:nvPr/>
        </p:nvSpPr>
        <p:spPr>
          <a:xfrm>
            <a:off x="611280" y="157644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李明每天的作息时间安排如下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0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李明每天花多少小时做作业？你还能得到哪些信息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1" name="TextBox 13"/>
          <p:cNvSpPr/>
          <p:nvPr/>
        </p:nvSpPr>
        <p:spPr>
          <a:xfrm>
            <a:off x="0" y="6093000"/>
            <a:ext cx="9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李明每天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9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做作业；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.0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上课；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活动；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2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认为李明的作息时间安排得合理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3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的作息时间与李明的有什么不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4" name="图片 27655" descr="90"/>
          <p:cNvPicPr/>
          <p:nvPr/>
        </p:nvPicPr>
        <p:blipFill>
          <a:blip r:embed="rId1"/>
          <a:stretch/>
        </p:blipFill>
        <p:spPr>
          <a:xfrm>
            <a:off x="2124000" y="2133720"/>
            <a:ext cx="4768920" cy="28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9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0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0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0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0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0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19458"/>
          <p:cNvGrpSpPr/>
          <p:nvPr/>
        </p:nvGrpSpPr>
        <p:grpSpPr>
          <a:xfrm>
            <a:off x="826920" y="1700280"/>
            <a:ext cx="4943520" cy="1414440"/>
            <a:chOff x="826920" y="1700280"/>
            <a:chExt cx="4943520" cy="1414440"/>
          </a:xfrm>
        </p:grpSpPr>
        <p:pic>
          <p:nvPicPr>
            <p:cNvPr id="1486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AutoShape 27"/>
            <p:cNvSpPr/>
            <p:nvPr/>
          </p:nvSpPr>
          <p:spPr>
            <a:xfrm>
              <a:off x="2556000" y="1700280"/>
              <a:ext cx="3214440" cy="1317600"/>
            </a:xfrm>
            <a:prstGeom prst="wedgeRoundRectCallout">
              <a:avLst>
                <a:gd name="adj1" fmla="val -60023"/>
                <a:gd name="adj2" fmla="val 28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学校要为咱们班购置一些运动器材，你能提出一些建议吗？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88" name="组合 19461"/>
          <p:cNvGrpSpPr/>
          <p:nvPr/>
        </p:nvGrpSpPr>
        <p:grpSpPr>
          <a:xfrm>
            <a:off x="468360" y="3860640"/>
            <a:ext cx="4011480" cy="1800360"/>
            <a:chOff x="468360" y="3860640"/>
            <a:chExt cx="4011480" cy="1800360"/>
          </a:xfrm>
        </p:grpSpPr>
        <p:sp>
          <p:nvSpPr>
            <p:cNvPr id="1489" name="AutoShape 27"/>
            <p:cNvSpPr/>
            <p:nvPr/>
          </p:nvSpPr>
          <p:spPr>
            <a:xfrm>
              <a:off x="1979640" y="4005360"/>
              <a:ext cx="2500200" cy="1322280"/>
            </a:xfrm>
            <a:prstGeom prst="wedgeRoundRectCallout">
              <a:avLst>
                <a:gd name="adj1" fmla="val -62509"/>
                <a:gd name="adj2" fmla="val -13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觉得应该先调查一下喜欢每种运动的各有多少人。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490" name="图片 19463" descr="67"/>
            <p:cNvPicPr/>
            <p:nvPr/>
          </p:nvPicPr>
          <p:blipFill>
            <a:blip r:embed="rId2"/>
            <a:stretch/>
          </p:blipFill>
          <p:spPr>
            <a:xfrm>
              <a:off x="468360" y="386064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矩形 19464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矩形 19465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矩形 19466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59"/>
          <p:cNvSpPr/>
          <p:nvPr/>
        </p:nvSpPr>
        <p:spPr>
          <a:xfrm>
            <a:off x="6919920" y="3933720"/>
            <a:ext cx="1366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2.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Rectangle 2"/>
          <p:cNvSpPr/>
          <p:nvPr/>
        </p:nvSpPr>
        <p:spPr>
          <a:xfrm>
            <a:off x="179280" y="1455840"/>
            <a:ext cx="7777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整理信息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矩形 20484"/>
          <p:cNvSpPr/>
          <p:nvPr/>
        </p:nvSpPr>
        <p:spPr>
          <a:xfrm>
            <a:off x="2590560" y="2313360"/>
            <a:ext cx="405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六（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班同学最喜欢运动项目的情况统计表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498" name=""/>
          <p:cNvGraphicFramePr/>
          <p:nvPr/>
        </p:nvGraphicFramePr>
        <p:xfrm>
          <a:off x="1547640" y="2852640"/>
          <a:ext cx="6383160" cy="2408400"/>
        </p:xfrm>
        <a:graphic>
          <a:graphicData uri="http://schemas.openxmlformats.org/drawingml/2006/table">
            <a:tbl>
              <a:tblPr/>
              <a:tblGrid>
                <a:gridCol w="1152360"/>
                <a:gridCol w="1167120"/>
                <a:gridCol w="1015920"/>
                <a:gridCol w="1015920"/>
                <a:gridCol w="1015920"/>
                <a:gridCol w="1015920"/>
              </a:tblGrid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项目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乒乓球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足球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跳绳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踢毽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其他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人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2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8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6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百分比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9" name="TextBox 1"/>
          <p:cNvSpPr/>
          <p:nvPr/>
        </p:nvSpPr>
        <p:spPr>
          <a:xfrm>
            <a:off x="2948040" y="3922560"/>
            <a:ext cx="1254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TextBox 54"/>
          <p:cNvSpPr/>
          <p:nvPr/>
        </p:nvSpPr>
        <p:spPr>
          <a:xfrm>
            <a:off x="4857840" y="393552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2.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TextBox 55"/>
          <p:cNvSpPr/>
          <p:nvPr/>
        </p:nvSpPr>
        <p:spPr>
          <a:xfrm>
            <a:off x="3948120" y="3935520"/>
            <a:ext cx="1147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2" name="TextBox 60"/>
          <p:cNvSpPr/>
          <p:nvPr/>
        </p:nvSpPr>
        <p:spPr>
          <a:xfrm>
            <a:off x="6006960" y="3922560"/>
            <a:ext cx="113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3" name="组合 20519"/>
          <p:cNvGrpSpPr/>
          <p:nvPr/>
        </p:nvGrpSpPr>
        <p:grpSpPr>
          <a:xfrm>
            <a:off x="395280" y="5084640"/>
            <a:ext cx="5545080" cy="1279800"/>
            <a:chOff x="395280" y="5084640"/>
            <a:chExt cx="5545080" cy="1279800"/>
          </a:xfrm>
        </p:grpSpPr>
        <p:pic>
          <p:nvPicPr>
            <p:cNvPr id="150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95280" y="508464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5" name="AutoShape 27"/>
            <p:cNvSpPr/>
            <p:nvPr/>
          </p:nvSpPr>
          <p:spPr>
            <a:xfrm>
              <a:off x="2052720" y="5157720"/>
              <a:ext cx="3887640" cy="936720"/>
            </a:xfrm>
            <a:prstGeom prst="wedgeRoundRectCallout">
              <a:avLst>
                <a:gd name="adj1" fmla="val -56328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算出喜欢每种运动的人数各占全班的百分之几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506" name="对象 20522" descr=""/>
          <p:cNvPicPr/>
          <p:nvPr/>
        </p:nvPicPr>
        <p:blipFill>
          <a:blip r:embed="rId2"/>
          <a:stretch/>
        </p:blipFill>
        <p:spPr>
          <a:xfrm>
            <a:off x="1523880" y="140004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1507" name="矩形 20523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成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9" name="组合 21506"/>
          <p:cNvGrpSpPr/>
          <p:nvPr/>
        </p:nvGrpSpPr>
        <p:grpSpPr>
          <a:xfrm>
            <a:off x="1384200" y="3673080"/>
            <a:ext cx="3754440" cy="2158920"/>
            <a:chOff x="1384200" y="3673080"/>
            <a:chExt cx="3754440" cy="2158920"/>
          </a:xfrm>
        </p:grpSpPr>
        <p:sp>
          <p:nvSpPr>
            <p:cNvPr id="1510" name="直接连接符 21507"/>
            <p:cNvSpPr/>
            <p:nvPr/>
          </p:nvSpPr>
          <p:spPr>
            <a:xfrm>
              <a:off x="1393920" y="583056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1" name="直接连接符 21508"/>
            <p:cNvSpPr/>
            <p:nvPr/>
          </p:nvSpPr>
          <p:spPr>
            <a:xfrm flipV="1">
              <a:off x="1384200" y="3673080"/>
              <a:ext cx="0" cy="215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直接连接符 21509"/>
            <p:cNvSpPr/>
            <p:nvPr/>
          </p:nvSpPr>
          <p:spPr>
            <a:xfrm>
              <a:off x="1393920" y="554796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直接连接符 21510"/>
            <p:cNvSpPr/>
            <p:nvPr/>
          </p:nvSpPr>
          <p:spPr>
            <a:xfrm>
              <a:off x="1389240" y="524484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直接连接符 21511"/>
            <p:cNvSpPr/>
            <p:nvPr/>
          </p:nvSpPr>
          <p:spPr>
            <a:xfrm>
              <a:off x="1384200" y="49561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5" name="直接连接符 21512"/>
            <p:cNvSpPr/>
            <p:nvPr/>
          </p:nvSpPr>
          <p:spPr>
            <a:xfrm>
              <a:off x="1389240" y="465912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6" name="直接连接符 21513"/>
            <p:cNvSpPr/>
            <p:nvPr/>
          </p:nvSpPr>
          <p:spPr>
            <a:xfrm>
              <a:off x="1384200" y="436068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7" name="直接连接符 21514"/>
            <p:cNvSpPr/>
            <p:nvPr/>
          </p:nvSpPr>
          <p:spPr>
            <a:xfrm>
              <a:off x="1384200" y="408276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8" name="直接连接符 21515"/>
            <p:cNvSpPr/>
            <p:nvPr/>
          </p:nvSpPr>
          <p:spPr>
            <a:xfrm>
              <a:off x="1389240" y="380484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13"/>
          <p:cNvSpPr/>
          <p:nvPr/>
        </p:nvSpPr>
        <p:spPr>
          <a:xfrm>
            <a:off x="1192320" y="609300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条形统计图中，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1" name="组合 21518"/>
          <p:cNvGrpSpPr/>
          <p:nvPr/>
        </p:nvGrpSpPr>
        <p:grpSpPr>
          <a:xfrm>
            <a:off x="988920" y="3573360"/>
            <a:ext cx="4278240" cy="2573280"/>
            <a:chOff x="988920" y="3573360"/>
            <a:chExt cx="4278240" cy="2573280"/>
          </a:xfrm>
        </p:grpSpPr>
        <p:pic>
          <p:nvPicPr>
            <p:cNvPr id="1522" name="图片 21519" descr="85"/>
            <p:cNvPicPr/>
            <p:nvPr/>
          </p:nvPicPr>
          <p:blipFill>
            <a:blip r:embed="rId1"/>
            <a:stretch/>
          </p:blipFill>
          <p:spPr>
            <a:xfrm>
              <a:off x="1320840" y="3725640"/>
              <a:ext cx="3882960" cy="21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3" name="组合 21520"/>
            <p:cNvGrpSpPr/>
            <p:nvPr/>
          </p:nvGrpSpPr>
          <p:grpSpPr>
            <a:xfrm>
              <a:off x="988920" y="3573360"/>
              <a:ext cx="4278240" cy="2573280"/>
              <a:chOff x="988920" y="3573360"/>
              <a:chExt cx="4278240" cy="2573280"/>
            </a:xfrm>
          </p:grpSpPr>
          <p:sp>
            <p:nvSpPr>
              <p:cNvPr id="1524" name="文本框 21521"/>
              <p:cNvSpPr/>
              <p:nvPr/>
            </p:nvSpPr>
            <p:spPr>
              <a:xfrm>
                <a:off x="1320840" y="5742000"/>
                <a:ext cx="107928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文本框 21522"/>
              <p:cNvSpPr/>
              <p:nvPr/>
            </p:nvSpPr>
            <p:spPr>
              <a:xfrm>
                <a:off x="2179440" y="5738760"/>
                <a:ext cx="1008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文本框 21523"/>
              <p:cNvSpPr/>
              <p:nvPr/>
            </p:nvSpPr>
            <p:spPr>
              <a:xfrm>
                <a:off x="2962080" y="5751360"/>
                <a:ext cx="720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7" name="文本框 21524"/>
              <p:cNvSpPr/>
              <p:nvPr/>
            </p:nvSpPr>
            <p:spPr>
              <a:xfrm>
                <a:off x="3720960" y="5757840"/>
                <a:ext cx="7257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8" name="文本框 21525"/>
              <p:cNvSpPr/>
              <p:nvPr/>
            </p:nvSpPr>
            <p:spPr>
              <a:xfrm>
                <a:off x="4541760" y="5760720"/>
                <a:ext cx="7254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29" name="组合 21526"/>
              <p:cNvGrpSpPr/>
              <p:nvPr/>
            </p:nvGrpSpPr>
            <p:grpSpPr>
              <a:xfrm>
                <a:off x="988920" y="3573360"/>
                <a:ext cx="3930840" cy="2440080"/>
                <a:chOff x="988920" y="3573360"/>
                <a:chExt cx="3930840" cy="2440080"/>
              </a:xfrm>
            </p:grpSpPr>
            <p:sp>
              <p:nvSpPr>
                <p:cNvPr id="1530" name="文本框 21527"/>
                <p:cNvSpPr/>
                <p:nvPr/>
              </p:nvSpPr>
              <p:spPr>
                <a:xfrm>
                  <a:off x="1114200" y="56275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0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1" name="文本框 21528"/>
                <p:cNvSpPr/>
                <p:nvPr/>
              </p:nvSpPr>
              <p:spPr>
                <a:xfrm>
                  <a:off x="1104840" y="531000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2" name="文本框 21529"/>
                <p:cNvSpPr/>
                <p:nvPr/>
              </p:nvSpPr>
              <p:spPr>
                <a:xfrm>
                  <a:off x="1104840" y="50227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3" name="文本框 21530"/>
                <p:cNvSpPr/>
                <p:nvPr/>
              </p:nvSpPr>
              <p:spPr>
                <a:xfrm>
                  <a:off x="1104840" y="47401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4" name="文本框 21531"/>
                <p:cNvSpPr/>
                <p:nvPr/>
              </p:nvSpPr>
              <p:spPr>
                <a:xfrm>
                  <a:off x="1119240" y="445608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5" name="文本框 21532"/>
                <p:cNvSpPr/>
                <p:nvPr/>
              </p:nvSpPr>
              <p:spPr>
                <a:xfrm>
                  <a:off x="988920" y="415764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6" name="文本框 21533"/>
                <p:cNvSpPr/>
                <p:nvPr/>
              </p:nvSpPr>
              <p:spPr>
                <a:xfrm>
                  <a:off x="988920" y="387000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7" name="文本框 21534"/>
                <p:cNvSpPr/>
                <p:nvPr/>
              </p:nvSpPr>
              <p:spPr>
                <a:xfrm>
                  <a:off x="993600" y="357336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4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8" name="文本框 21535"/>
                <p:cNvSpPr/>
                <p:nvPr/>
              </p:nvSpPr>
              <p:spPr>
                <a:xfrm>
                  <a:off x="1527120" y="3760560"/>
                  <a:ext cx="43164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9" name="文本框 21536"/>
                <p:cNvSpPr/>
                <p:nvPr/>
              </p:nvSpPr>
              <p:spPr>
                <a:xfrm>
                  <a:off x="2347920" y="434016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0" name="文本框 21537"/>
                <p:cNvSpPr/>
                <p:nvPr/>
              </p:nvSpPr>
              <p:spPr>
                <a:xfrm>
                  <a:off x="3111480" y="476244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1" name="文本框 21538"/>
                <p:cNvSpPr/>
                <p:nvPr/>
              </p:nvSpPr>
              <p:spPr>
                <a:xfrm>
                  <a:off x="3894120" y="46195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2" name="文本框 21539"/>
                <p:cNvSpPr/>
                <p:nvPr/>
              </p:nvSpPr>
              <p:spPr>
                <a:xfrm>
                  <a:off x="4641840" y="419544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543" name="组合 21540"/>
          <p:cNvGrpSpPr/>
          <p:nvPr/>
        </p:nvGrpSpPr>
        <p:grpSpPr>
          <a:xfrm>
            <a:off x="0" y="2276640"/>
            <a:ext cx="4825800" cy="1800000"/>
            <a:chOff x="0" y="2276640"/>
            <a:chExt cx="4825800" cy="1800000"/>
          </a:xfrm>
        </p:grpSpPr>
        <p:sp>
          <p:nvSpPr>
            <p:cNvPr id="1544" name="AutoShape 27"/>
            <p:cNvSpPr/>
            <p:nvPr/>
          </p:nvSpPr>
          <p:spPr>
            <a:xfrm>
              <a:off x="1387440" y="2610000"/>
              <a:ext cx="3438360" cy="583920"/>
            </a:xfrm>
            <a:prstGeom prst="wedgeRoundRectCallout">
              <a:avLst>
                <a:gd name="adj1" fmla="val -54384"/>
                <a:gd name="adj2" fmla="val -13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制成的是条形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5" name="图片 21542" descr="67"/>
            <p:cNvPicPr/>
            <p:nvPr/>
          </p:nvPicPr>
          <p:blipFill>
            <a:blip r:embed="rId2"/>
            <a:stretch/>
          </p:blipFill>
          <p:spPr>
            <a:xfrm>
              <a:off x="0" y="227664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6" name="组合 21543"/>
          <p:cNvGrpSpPr/>
          <p:nvPr/>
        </p:nvGrpSpPr>
        <p:grpSpPr>
          <a:xfrm>
            <a:off x="4500720" y="1341360"/>
            <a:ext cx="4187160" cy="1279440"/>
            <a:chOff x="4500720" y="1341360"/>
            <a:chExt cx="4187160" cy="1279440"/>
          </a:xfrm>
        </p:grpSpPr>
        <p:pic>
          <p:nvPicPr>
            <p:cNvPr id="1547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164000" y="1341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AutoShape 27"/>
            <p:cNvSpPr/>
            <p:nvPr/>
          </p:nvSpPr>
          <p:spPr>
            <a:xfrm>
              <a:off x="4500720" y="1536480"/>
              <a:ext cx="2580840" cy="95688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根据需要制成相应的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49" name="组合 21546"/>
          <p:cNvGrpSpPr/>
          <p:nvPr/>
        </p:nvGrpSpPr>
        <p:grpSpPr>
          <a:xfrm>
            <a:off x="5133960" y="3645000"/>
            <a:ext cx="4019040" cy="2015640"/>
            <a:chOff x="5133960" y="3645000"/>
            <a:chExt cx="4019040" cy="2015640"/>
          </a:xfrm>
        </p:grpSpPr>
        <p:sp>
          <p:nvSpPr>
            <p:cNvPr id="1550" name="AutoShape 27"/>
            <p:cNvSpPr/>
            <p:nvPr/>
          </p:nvSpPr>
          <p:spPr>
            <a:xfrm>
              <a:off x="5133960" y="3645000"/>
              <a:ext cx="2590560" cy="1728360"/>
            </a:xfrm>
            <a:prstGeom prst="wedgeRoundRectCallout">
              <a:avLst>
                <a:gd name="adj1" fmla="val 62745"/>
                <a:gd name="adj2" fmla="val -5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从图中我知道了：喜欢乒乓球的人数最多，喜欢跳绳的人数最少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51" name="图片 21548" descr="49"/>
            <p:cNvPicPr/>
            <p:nvPr/>
          </p:nvPicPr>
          <p:blipFill>
            <a:blip r:embed="rId4"/>
            <a:stretch/>
          </p:blipFill>
          <p:spPr>
            <a:xfrm>
              <a:off x="7724520" y="386208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2" name="矩形 21549"/>
          <p:cNvSpPr/>
          <p:nvPr/>
        </p:nvSpPr>
        <p:spPr>
          <a:xfrm>
            <a:off x="1951200" y="3343320"/>
            <a:ext cx="2463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六（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班同学最喜欢的运动项目统计图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4" name="组合 22530"/>
          <p:cNvGrpSpPr/>
          <p:nvPr/>
        </p:nvGrpSpPr>
        <p:grpSpPr>
          <a:xfrm>
            <a:off x="466560" y="2203560"/>
            <a:ext cx="3313080" cy="1801800"/>
            <a:chOff x="466560" y="2203560"/>
            <a:chExt cx="3313080" cy="1801800"/>
          </a:xfrm>
        </p:grpSpPr>
        <p:pic>
          <p:nvPicPr>
            <p:cNvPr id="1555" name="图片 22531" descr="82"/>
            <p:cNvPicPr/>
            <p:nvPr/>
          </p:nvPicPr>
          <p:blipFill>
            <a:blip r:embed="rId1"/>
            <a:stretch/>
          </p:blipFill>
          <p:spPr>
            <a:xfrm>
              <a:off x="466560" y="2203560"/>
              <a:ext cx="14144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AutoShape 27"/>
            <p:cNvSpPr/>
            <p:nvPr/>
          </p:nvSpPr>
          <p:spPr>
            <a:xfrm>
              <a:off x="1906560" y="2276640"/>
              <a:ext cx="1873080" cy="863640"/>
            </a:xfrm>
            <a:prstGeom prst="wedgeRoundRectCallout">
              <a:avLst>
                <a:gd name="adj1" fmla="val -62625"/>
                <a:gd name="adj2" fmla="val -8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制成了这幅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7" name="组合 22533"/>
          <p:cNvGrpSpPr/>
          <p:nvPr/>
        </p:nvGrpSpPr>
        <p:grpSpPr>
          <a:xfrm>
            <a:off x="971640" y="4041720"/>
            <a:ext cx="4032000" cy="2339640"/>
            <a:chOff x="971640" y="4041720"/>
            <a:chExt cx="4032000" cy="2339640"/>
          </a:xfrm>
        </p:grpSpPr>
        <p:grpSp>
          <p:nvGrpSpPr>
            <p:cNvPr id="1558" name="组合 22534"/>
            <p:cNvGrpSpPr/>
            <p:nvPr/>
          </p:nvGrpSpPr>
          <p:grpSpPr>
            <a:xfrm>
              <a:off x="1620360" y="4402080"/>
              <a:ext cx="2056680" cy="1979280"/>
              <a:chOff x="1620360" y="4402080"/>
              <a:chExt cx="2056680" cy="1979280"/>
            </a:xfrm>
          </p:grpSpPr>
          <p:pic>
            <p:nvPicPr>
              <p:cNvPr id="1559" name="图片 22535" descr="86"/>
              <p:cNvPicPr/>
              <p:nvPr/>
            </p:nvPicPr>
            <p:blipFill>
              <a:blip r:embed="rId2"/>
              <a:stretch/>
            </p:blipFill>
            <p:spPr>
              <a:xfrm>
                <a:off x="1720080" y="4402080"/>
                <a:ext cx="195696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0" name="文本框 22536"/>
              <p:cNvSpPr/>
              <p:nvPr/>
            </p:nvSpPr>
            <p:spPr>
              <a:xfrm>
                <a:off x="2640960" y="4762440"/>
                <a:ext cx="93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1" name="文本框 22537"/>
              <p:cNvSpPr/>
              <p:nvPr/>
            </p:nvSpPr>
            <p:spPr>
              <a:xfrm>
                <a:off x="2589840" y="56926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2" name="文本框 22538"/>
              <p:cNvSpPr/>
              <p:nvPr/>
            </p:nvSpPr>
            <p:spPr>
              <a:xfrm>
                <a:off x="1859760" y="47559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3" name="文本框 22539"/>
              <p:cNvSpPr/>
              <p:nvPr/>
            </p:nvSpPr>
            <p:spPr>
              <a:xfrm>
                <a:off x="1620360" y="53002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2540"/>
              <p:cNvSpPr/>
              <p:nvPr/>
            </p:nvSpPr>
            <p:spPr>
              <a:xfrm>
                <a:off x="1990080" y="5684760"/>
                <a:ext cx="93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5" name="文本框 22541"/>
            <p:cNvSpPr/>
            <p:nvPr/>
          </p:nvSpPr>
          <p:spPr>
            <a:xfrm>
              <a:off x="971640" y="4041720"/>
              <a:ext cx="403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6" name="组合 22542"/>
          <p:cNvGrpSpPr/>
          <p:nvPr/>
        </p:nvGrpSpPr>
        <p:grpSpPr>
          <a:xfrm>
            <a:off x="4632480" y="1628640"/>
            <a:ext cx="4187160" cy="1279800"/>
            <a:chOff x="4632480" y="1628640"/>
            <a:chExt cx="4187160" cy="1279800"/>
          </a:xfrm>
        </p:grpSpPr>
        <p:pic>
          <p:nvPicPr>
            <p:cNvPr id="1567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295760" y="162864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AutoShape 27"/>
            <p:cNvSpPr/>
            <p:nvPr/>
          </p:nvSpPr>
          <p:spPr>
            <a:xfrm>
              <a:off x="4632480" y="1824120"/>
              <a:ext cx="2580840" cy="95724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根据需要制成相应的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9" name="组合 22545"/>
          <p:cNvGrpSpPr/>
          <p:nvPr/>
        </p:nvGrpSpPr>
        <p:grpSpPr>
          <a:xfrm>
            <a:off x="5003640" y="4149720"/>
            <a:ext cx="3662280" cy="1798560"/>
            <a:chOff x="5003640" y="4149720"/>
            <a:chExt cx="3662280" cy="1798560"/>
          </a:xfrm>
        </p:grpSpPr>
        <p:sp>
          <p:nvSpPr>
            <p:cNvPr id="1570" name="AutoShape 27"/>
            <p:cNvSpPr/>
            <p:nvPr/>
          </p:nvSpPr>
          <p:spPr>
            <a:xfrm>
              <a:off x="5003640" y="4365720"/>
              <a:ext cx="2063520" cy="1008000"/>
            </a:xfrm>
            <a:prstGeom prst="wedgeRoundRectCallout">
              <a:avLst>
                <a:gd name="adj1" fmla="val 62305"/>
                <a:gd name="adj2" fmla="val 2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认识这幅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1" name="图片 22547" descr="49"/>
            <p:cNvPicPr/>
            <p:nvPr/>
          </p:nvPicPr>
          <p:blipFill>
            <a:blip r:embed="rId4"/>
            <a:stretch/>
          </p:blipFill>
          <p:spPr>
            <a:xfrm>
              <a:off x="723708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2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成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矩形 22549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矩形 22550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5" name="矩形 22551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认识扇形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TextBox 13"/>
          <p:cNvSpPr/>
          <p:nvPr/>
        </p:nvSpPr>
        <p:spPr>
          <a:xfrm>
            <a:off x="644400" y="5280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整个圆、每个小扇形分别表示什么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TextBox 13"/>
          <p:cNvSpPr/>
          <p:nvPr/>
        </p:nvSpPr>
        <p:spPr>
          <a:xfrm>
            <a:off x="108000" y="5840280"/>
            <a:ext cx="90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整个圆表示六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班同学的人数，粉色的扇形表示喜欢足球的人数占全班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蓝色的扇形表示喜欢跳绳的人数占全班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5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0" name="TextBox 13"/>
          <p:cNvSpPr/>
          <p:nvPr/>
        </p:nvSpPr>
        <p:spPr>
          <a:xfrm>
            <a:off x="649440" y="528624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喜欢踢毽的人数占总人数的百分之几？乒乓球的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1" name="TextBox 13"/>
          <p:cNvSpPr/>
          <p:nvPr/>
        </p:nvSpPr>
        <p:spPr>
          <a:xfrm>
            <a:off x="-419040" y="584532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喜欢踢毽的人数占总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喜欢乒乓球的人数占总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2" name="TextBox 13"/>
          <p:cNvSpPr/>
          <p:nvPr/>
        </p:nvSpPr>
        <p:spPr>
          <a:xfrm>
            <a:off x="641520" y="5291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各个扇形的大小与什么有关系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3" name="TextBox 13"/>
          <p:cNvSpPr/>
          <p:nvPr/>
        </p:nvSpPr>
        <p:spPr>
          <a:xfrm>
            <a:off x="-414360" y="5815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各个扇形的大小与班中喜欢某项运动的人数占全班人数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几有关系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4" name="TextBox 13"/>
          <p:cNvSpPr/>
          <p:nvPr/>
        </p:nvSpPr>
        <p:spPr>
          <a:xfrm>
            <a:off x="635040" y="52815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用这样的统计图有什么好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5" name="TextBox 13"/>
          <p:cNvSpPr/>
          <p:nvPr/>
        </p:nvSpPr>
        <p:spPr>
          <a:xfrm>
            <a:off x="-415800" y="5815080"/>
            <a:ext cx="88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可以清楚地反映出喜欢每种运动项目的人数占总人数的百分之几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6" name="组合 23563"/>
          <p:cNvGrpSpPr/>
          <p:nvPr/>
        </p:nvGrpSpPr>
        <p:grpSpPr>
          <a:xfrm>
            <a:off x="2050920" y="2492280"/>
            <a:ext cx="4032360" cy="2339640"/>
            <a:chOff x="2050920" y="2492280"/>
            <a:chExt cx="4032360" cy="2339640"/>
          </a:xfrm>
        </p:grpSpPr>
        <p:grpSp>
          <p:nvGrpSpPr>
            <p:cNvPr id="1587" name="组合 23564"/>
            <p:cNvGrpSpPr/>
            <p:nvPr/>
          </p:nvGrpSpPr>
          <p:grpSpPr>
            <a:xfrm>
              <a:off x="2700000" y="2852640"/>
              <a:ext cx="2057400" cy="1979280"/>
              <a:chOff x="2700000" y="2852640"/>
              <a:chExt cx="2057400" cy="1979280"/>
            </a:xfrm>
          </p:grpSpPr>
          <p:pic>
            <p:nvPicPr>
              <p:cNvPr id="1588" name="图片 23565" descr="86"/>
              <p:cNvPicPr/>
              <p:nvPr/>
            </p:nvPicPr>
            <p:blipFill>
              <a:blip r:embed="rId1"/>
              <a:stretch/>
            </p:blipFill>
            <p:spPr>
              <a:xfrm>
                <a:off x="2800080" y="2852640"/>
                <a:ext cx="19573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9" name="文本框 23566"/>
              <p:cNvSpPr/>
              <p:nvPr/>
            </p:nvSpPr>
            <p:spPr>
              <a:xfrm>
                <a:off x="3720960" y="321300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文本框 23567"/>
              <p:cNvSpPr/>
              <p:nvPr/>
            </p:nvSpPr>
            <p:spPr>
              <a:xfrm>
                <a:off x="3669840" y="414324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1" name="文本框 23568"/>
              <p:cNvSpPr/>
              <p:nvPr/>
            </p:nvSpPr>
            <p:spPr>
              <a:xfrm>
                <a:off x="2939760" y="320652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2" name="文本框 23569"/>
              <p:cNvSpPr/>
              <p:nvPr/>
            </p:nvSpPr>
            <p:spPr>
              <a:xfrm>
                <a:off x="2700000" y="375084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3" name="文本框 23570"/>
              <p:cNvSpPr/>
              <p:nvPr/>
            </p:nvSpPr>
            <p:spPr>
              <a:xfrm>
                <a:off x="3070080" y="413532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94" name="文本框 23571"/>
            <p:cNvSpPr/>
            <p:nvPr/>
          </p:nvSpPr>
          <p:spPr>
            <a:xfrm>
              <a:off x="2050920" y="249228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5" name="组合 23572"/>
          <p:cNvGrpSpPr/>
          <p:nvPr/>
        </p:nvGrpSpPr>
        <p:grpSpPr>
          <a:xfrm>
            <a:off x="4716360" y="1125360"/>
            <a:ext cx="4044960" cy="1414440"/>
            <a:chOff x="4716360" y="1125360"/>
            <a:chExt cx="4044960" cy="1414440"/>
          </a:xfrm>
        </p:grpSpPr>
        <p:pic>
          <p:nvPicPr>
            <p:cNvPr id="1596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237440" y="112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7" name="AutoShape 27"/>
            <p:cNvSpPr/>
            <p:nvPr/>
          </p:nvSpPr>
          <p:spPr>
            <a:xfrm>
              <a:off x="4716360" y="1709640"/>
              <a:ext cx="2448000" cy="568440"/>
            </a:xfrm>
            <a:prstGeom prst="wedgeRoundRectCallout">
              <a:avLst>
                <a:gd name="adj1" fmla="val 58819"/>
                <a:gd name="adj2" fmla="val 44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这叫扇形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2"/>
          <p:cNvSpPr/>
          <p:nvPr/>
        </p:nvSpPr>
        <p:spPr>
          <a:xfrm>
            <a:off x="179280" y="1455840"/>
            <a:ext cx="4176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四）比较辨析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Box 13"/>
          <p:cNvSpPr/>
          <p:nvPr/>
        </p:nvSpPr>
        <p:spPr>
          <a:xfrm>
            <a:off x="515880" y="5391000"/>
            <a:ext cx="54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这两幅统计图有什么相同点和不同点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TextBox 13"/>
          <p:cNvSpPr/>
          <p:nvPr/>
        </p:nvSpPr>
        <p:spPr>
          <a:xfrm>
            <a:off x="507960" y="53928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如果你是老师，拿到了这两幅统计图，会做出什么决定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TextBox 13"/>
          <p:cNvSpPr/>
          <p:nvPr/>
        </p:nvSpPr>
        <p:spPr>
          <a:xfrm>
            <a:off x="-181080" y="584028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这两幅图都可以看出数量的多少，扇形统计图还能清楚地反映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喜欢每种运动项目的人数占总人数的百分之几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3" name="组合 24582"/>
          <p:cNvGrpSpPr/>
          <p:nvPr/>
        </p:nvGrpSpPr>
        <p:grpSpPr>
          <a:xfrm>
            <a:off x="525600" y="2133720"/>
            <a:ext cx="4278240" cy="2751120"/>
            <a:chOff x="525600" y="2133720"/>
            <a:chExt cx="4278240" cy="2751120"/>
          </a:xfrm>
        </p:grpSpPr>
        <p:grpSp>
          <p:nvGrpSpPr>
            <p:cNvPr id="1604" name="组合 24583"/>
            <p:cNvGrpSpPr/>
            <p:nvPr/>
          </p:nvGrpSpPr>
          <p:grpSpPr>
            <a:xfrm>
              <a:off x="900000" y="2133720"/>
              <a:ext cx="3754440" cy="2445840"/>
              <a:chOff x="900000" y="2133720"/>
              <a:chExt cx="3754440" cy="2445840"/>
            </a:xfrm>
          </p:grpSpPr>
          <p:sp>
            <p:nvSpPr>
              <p:cNvPr id="1605" name="矩形 24584"/>
              <p:cNvSpPr/>
              <p:nvPr/>
            </p:nvSpPr>
            <p:spPr>
              <a:xfrm>
                <a:off x="1484640" y="2133720"/>
                <a:ext cx="24631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六（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班同学最喜欢的运动项目统计图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06" name="组合 24585"/>
              <p:cNvGrpSpPr/>
              <p:nvPr/>
            </p:nvGrpSpPr>
            <p:grpSpPr>
              <a:xfrm>
                <a:off x="900000" y="2420640"/>
                <a:ext cx="3754440" cy="2158920"/>
                <a:chOff x="900000" y="2420640"/>
                <a:chExt cx="3754440" cy="2158920"/>
              </a:xfrm>
            </p:grpSpPr>
            <p:sp>
              <p:nvSpPr>
                <p:cNvPr id="1607" name="直接连接符 24586"/>
                <p:cNvSpPr/>
                <p:nvPr/>
              </p:nvSpPr>
              <p:spPr>
                <a:xfrm>
                  <a:off x="909720" y="457812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8" name="直接连接符 24587"/>
                <p:cNvSpPr/>
                <p:nvPr/>
              </p:nvSpPr>
              <p:spPr>
                <a:xfrm flipV="1">
                  <a:off x="900000" y="2420640"/>
                  <a:ext cx="0" cy="215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9" name="直接连接符 24588"/>
                <p:cNvSpPr/>
                <p:nvPr/>
              </p:nvSpPr>
              <p:spPr>
                <a:xfrm>
                  <a:off x="909720" y="429552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0" name="直接连接符 24589"/>
                <p:cNvSpPr/>
                <p:nvPr/>
              </p:nvSpPr>
              <p:spPr>
                <a:xfrm>
                  <a:off x="905040" y="399240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1" name="直接连接符 24590"/>
                <p:cNvSpPr/>
                <p:nvPr/>
              </p:nvSpPr>
              <p:spPr>
                <a:xfrm>
                  <a:off x="900000" y="37036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2" name="直接连接符 24591"/>
                <p:cNvSpPr/>
                <p:nvPr/>
              </p:nvSpPr>
              <p:spPr>
                <a:xfrm>
                  <a:off x="905040" y="340668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3" name="直接连接符 24592"/>
                <p:cNvSpPr/>
                <p:nvPr/>
              </p:nvSpPr>
              <p:spPr>
                <a:xfrm>
                  <a:off x="900000" y="310824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4" name="直接连接符 24593"/>
                <p:cNvSpPr/>
                <p:nvPr/>
              </p:nvSpPr>
              <p:spPr>
                <a:xfrm>
                  <a:off x="900000" y="283032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5" name="直接连接符 24594"/>
                <p:cNvSpPr/>
                <p:nvPr/>
              </p:nvSpPr>
              <p:spPr>
                <a:xfrm>
                  <a:off x="905040" y="255240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616" name="组合 24595"/>
            <p:cNvGrpSpPr/>
            <p:nvPr/>
          </p:nvGrpSpPr>
          <p:grpSpPr>
            <a:xfrm>
              <a:off x="525600" y="2311560"/>
              <a:ext cx="4278240" cy="2573280"/>
              <a:chOff x="525600" y="2311560"/>
              <a:chExt cx="4278240" cy="2573280"/>
            </a:xfrm>
          </p:grpSpPr>
          <p:pic>
            <p:nvPicPr>
              <p:cNvPr id="1617" name="图片 24596" descr="85"/>
              <p:cNvPicPr/>
              <p:nvPr/>
            </p:nvPicPr>
            <p:blipFill>
              <a:blip r:embed="rId1"/>
              <a:stretch/>
            </p:blipFill>
            <p:spPr>
              <a:xfrm>
                <a:off x="857520" y="2463840"/>
                <a:ext cx="3882960" cy="215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8" name="组合 24597"/>
              <p:cNvGrpSpPr/>
              <p:nvPr/>
            </p:nvGrpSpPr>
            <p:grpSpPr>
              <a:xfrm>
                <a:off x="525600" y="2311560"/>
                <a:ext cx="4278240" cy="2573280"/>
                <a:chOff x="525600" y="2311560"/>
                <a:chExt cx="4278240" cy="2573280"/>
              </a:xfrm>
            </p:grpSpPr>
            <p:sp>
              <p:nvSpPr>
                <p:cNvPr id="1619" name="文本框 24598"/>
                <p:cNvSpPr/>
                <p:nvPr/>
              </p:nvSpPr>
              <p:spPr>
                <a:xfrm>
                  <a:off x="857520" y="4480200"/>
                  <a:ext cx="107928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乒乓球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0" name="文本框 24599"/>
                <p:cNvSpPr/>
                <p:nvPr/>
              </p:nvSpPr>
              <p:spPr>
                <a:xfrm>
                  <a:off x="1716120" y="4476960"/>
                  <a:ext cx="10083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足球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1" name="文本框 24600"/>
                <p:cNvSpPr/>
                <p:nvPr/>
              </p:nvSpPr>
              <p:spPr>
                <a:xfrm>
                  <a:off x="2498760" y="4489560"/>
                  <a:ext cx="7207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跳绳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2" name="文本框 24601"/>
                <p:cNvSpPr/>
                <p:nvPr/>
              </p:nvSpPr>
              <p:spPr>
                <a:xfrm>
                  <a:off x="3257640" y="4496040"/>
                  <a:ext cx="7257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踢毽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3" name="文本框 24602"/>
                <p:cNvSpPr/>
                <p:nvPr/>
              </p:nvSpPr>
              <p:spPr>
                <a:xfrm>
                  <a:off x="4078440" y="4498920"/>
                  <a:ext cx="7254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其他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24" name="组合 24603"/>
                <p:cNvGrpSpPr/>
                <p:nvPr/>
              </p:nvGrpSpPr>
              <p:grpSpPr>
                <a:xfrm>
                  <a:off x="525600" y="2311560"/>
                  <a:ext cx="3930840" cy="2440080"/>
                  <a:chOff x="525600" y="2311560"/>
                  <a:chExt cx="3930840" cy="2440080"/>
                </a:xfrm>
              </p:grpSpPr>
              <p:sp>
                <p:nvSpPr>
                  <p:cNvPr id="1625" name="文本框 24604"/>
                  <p:cNvSpPr/>
                  <p:nvPr/>
                </p:nvSpPr>
                <p:spPr>
                  <a:xfrm>
                    <a:off x="650880" y="43657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0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6" name="文本框 24605"/>
                  <p:cNvSpPr/>
                  <p:nvPr/>
                </p:nvSpPr>
                <p:spPr>
                  <a:xfrm>
                    <a:off x="641520" y="404820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7" name="文本框 24606"/>
                  <p:cNvSpPr/>
                  <p:nvPr/>
                </p:nvSpPr>
                <p:spPr>
                  <a:xfrm>
                    <a:off x="641520" y="37609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8" name="文本框 24607"/>
                  <p:cNvSpPr/>
                  <p:nvPr/>
                </p:nvSpPr>
                <p:spPr>
                  <a:xfrm>
                    <a:off x="641520" y="34783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9" name="文本框 24608"/>
                  <p:cNvSpPr/>
                  <p:nvPr/>
                </p:nvSpPr>
                <p:spPr>
                  <a:xfrm>
                    <a:off x="655920" y="319428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0" name="文本框 24609"/>
                  <p:cNvSpPr/>
                  <p:nvPr/>
                </p:nvSpPr>
                <p:spPr>
                  <a:xfrm>
                    <a:off x="525600" y="289584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0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1" name="文本框 24610"/>
                  <p:cNvSpPr/>
                  <p:nvPr/>
                </p:nvSpPr>
                <p:spPr>
                  <a:xfrm>
                    <a:off x="525600" y="260820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2" name="文本框 24611"/>
                  <p:cNvSpPr/>
                  <p:nvPr/>
                </p:nvSpPr>
                <p:spPr>
                  <a:xfrm>
                    <a:off x="530280" y="231156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4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3" name="文本框 24612"/>
                  <p:cNvSpPr/>
                  <p:nvPr/>
                </p:nvSpPr>
                <p:spPr>
                  <a:xfrm>
                    <a:off x="1063800" y="2498760"/>
                    <a:ext cx="43164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4" name="文本框 24613"/>
                  <p:cNvSpPr/>
                  <p:nvPr/>
                </p:nvSpPr>
                <p:spPr>
                  <a:xfrm>
                    <a:off x="1884600" y="307836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5" name="文本框 24614"/>
                  <p:cNvSpPr/>
                  <p:nvPr/>
                </p:nvSpPr>
                <p:spPr>
                  <a:xfrm>
                    <a:off x="2648160" y="350064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6" name="文本框 24615"/>
                  <p:cNvSpPr/>
                  <p:nvPr/>
                </p:nvSpPr>
                <p:spPr>
                  <a:xfrm>
                    <a:off x="3430800" y="33577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7" name="文本框 24616"/>
                  <p:cNvSpPr/>
                  <p:nvPr/>
                </p:nvSpPr>
                <p:spPr>
                  <a:xfrm>
                    <a:off x="4178520" y="293364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9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38" name="组合 24617"/>
          <p:cNvGrpSpPr/>
          <p:nvPr/>
        </p:nvGrpSpPr>
        <p:grpSpPr>
          <a:xfrm>
            <a:off x="4859280" y="2114640"/>
            <a:ext cx="4032360" cy="2339640"/>
            <a:chOff x="4859280" y="2114640"/>
            <a:chExt cx="4032360" cy="2339640"/>
          </a:xfrm>
        </p:grpSpPr>
        <p:grpSp>
          <p:nvGrpSpPr>
            <p:cNvPr id="1639" name="组合 24618"/>
            <p:cNvGrpSpPr/>
            <p:nvPr/>
          </p:nvGrpSpPr>
          <p:grpSpPr>
            <a:xfrm>
              <a:off x="5508360" y="2475000"/>
              <a:ext cx="2057400" cy="1979280"/>
              <a:chOff x="5508360" y="2475000"/>
              <a:chExt cx="2057400" cy="1979280"/>
            </a:xfrm>
          </p:grpSpPr>
          <p:pic>
            <p:nvPicPr>
              <p:cNvPr id="1640" name="图片 24619" descr="86"/>
              <p:cNvPicPr/>
              <p:nvPr/>
            </p:nvPicPr>
            <p:blipFill>
              <a:blip r:embed="rId2"/>
              <a:stretch/>
            </p:blipFill>
            <p:spPr>
              <a:xfrm>
                <a:off x="5608440" y="2475000"/>
                <a:ext cx="19573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1" name="文本框 24620"/>
              <p:cNvSpPr/>
              <p:nvPr/>
            </p:nvSpPr>
            <p:spPr>
              <a:xfrm>
                <a:off x="6529320" y="28353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2" name="文本框 24621"/>
              <p:cNvSpPr/>
              <p:nvPr/>
            </p:nvSpPr>
            <p:spPr>
              <a:xfrm>
                <a:off x="6478200" y="37656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3" name="文本框 24622"/>
              <p:cNvSpPr/>
              <p:nvPr/>
            </p:nvSpPr>
            <p:spPr>
              <a:xfrm>
                <a:off x="5748120" y="282888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4" name="文本框 24623"/>
              <p:cNvSpPr/>
              <p:nvPr/>
            </p:nvSpPr>
            <p:spPr>
              <a:xfrm>
                <a:off x="5508360" y="33732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5" name="文本框 24624"/>
              <p:cNvSpPr/>
              <p:nvPr/>
            </p:nvSpPr>
            <p:spPr>
              <a:xfrm>
                <a:off x="5878440" y="37576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Adobe Gothic Std B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46" name="文本框 24625"/>
            <p:cNvSpPr/>
            <p:nvPr/>
          </p:nvSpPr>
          <p:spPr>
            <a:xfrm>
              <a:off x="4859280" y="211464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五）生活中的扇形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8" name="组合 25602"/>
          <p:cNvGrpSpPr/>
          <p:nvPr/>
        </p:nvGrpSpPr>
        <p:grpSpPr>
          <a:xfrm>
            <a:off x="2340000" y="2492280"/>
            <a:ext cx="3480840" cy="3238560"/>
            <a:chOff x="2340000" y="2492280"/>
            <a:chExt cx="3480840" cy="3238560"/>
          </a:xfrm>
        </p:grpSpPr>
        <p:pic>
          <p:nvPicPr>
            <p:cNvPr id="1649" name="图片 25603" descr="87"/>
            <p:cNvPicPr/>
            <p:nvPr/>
          </p:nvPicPr>
          <p:blipFill>
            <a:blip r:embed="rId1"/>
            <a:stretch/>
          </p:blipFill>
          <p:spPr>
            <a:xfrm>
              <a:off x="2340000" y="2492280"/>
              <a:ext cx="339696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0" name="文本框 25604"/>
            <p:cNvSpPr/>
            <p:nvPr/>
          </p:nvSpPr>
          <p:spPr>
            <a:xfrm>
              <a:off x="3327120" y="4237200"/>
              <a:ext cx="1655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北美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.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1" name="文本框 25605"/>
            <p:cNvSpPr/>
            <p:nvPr/>
          </p:nvSpPr>
          <p:spPr>
            <a:xfrm>
              <a:off x="2653920" y="3916440"/>
              <a:ext cx="1271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南美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2" name="文本框 25606"/>
            <p:cNvSpPr/>
            <p:nvPr/>
          </p:nvSpPr>
          <p:spPr>
            <a:xfrm>
              <a:off x="4165200" y="3930840"/>
              <a:ext cx="1655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非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.2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3" name="文本框 25607"/>
            <p:cNvSpPr/>
            <p:nvPr/>
          </p:nvSpPr>
          <p:spPr>
            <a:xfrm>
              <a:off x="3949560" y="3397320"/>
              <a:ext cx="1655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亚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9.3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4" name="文本框 25608"/>
            <p:cNvSpPr/>
            <p:nvPr/>
          </p:nvSpPr>
          <p:spPr>
            <a:xfrm>
              <a:off x="2485800" y="3594240"/>
              <a:ext cx="1271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南极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.3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5" name="文本框 25609"/>
            <p:cNvSpPr/>
            <p:nvPr/>
          </p:nvSpPr>
          <p:spPr>
            <a:xfrm>
              <a:off x="2538360" y="3238560"/>
              <a:ext cx="1271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欧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.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6" name="文本框 25610"/>
            <p:cNvSpPr/>
            <p:nvPr/>
          </p:nvSpPr>
          <p:spPr>
            <a:xfrm>
              <a:off x="2585880" y="2916360"/>
              <a:ext cx="12711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大洋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7" name="文本框 25611"/>
            <p:cNvSpPr/>
            <p:nvPr/>
          </p:nvSpPr>
          <p:spPr>
            <a:xfrm>
              <a:off x="2490480" y="510084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世界陆地面积分布统计图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8" name="组合 25612"/>
          <p:cNvGrpSpPr/>
          <p:nvPr/>
        </p:nvGrpSpPr>
        <p:grpSpPr>
          <a:xfrm>
            <a:off x="1747800" y="2589120"/>
            <a:ext cx="5081400" cy="2985120"/>
            <a:chOff x="1747800" y="2589120"/>
            <a:chExt cx="5081400" cy="2985120"/>
          </a:xfrm>
        </p:grpSpPr>
        <p:grpSp>
          <p:nvGrpSpPr>
            <p:cNvPr id="1659" name="组合 25613"/>
            <p:cNvGrpSpPr/>
            <p:nvPr/>
          </p:nvGrpSpPr>
          <p:grpSpPr>
            <a:xfrm>
              <a:off x="1747800" y="3232080"/>
              <a:ext cx="5081400" cy="2342160"/>
              <a:chOff x="1747800" y="3232080"/>
              <a:chExt cx="5081400" cy="2342160"/>
            </a:xfrm>
          </p:grpSpPr>
          <p:pic>
            <p:nvPicPr>
              <p:cNvPr id="1660" name="图片 25614" descr="88"/>
              <p:cNvPicPr/>
              <p:nvPr/>
            </p:nvPicPr>
            <p:blipFill>
              <a:blip r:embed="rId2"/>
              <a:stretch/>
            </p:blipFill>
            <p:spPr>
              <a:xfrm>
                <a:off x="2236680" y="3412800"/>
                <a:ext cx="3295800" cy="202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1" name="组合 25615"/>
              <p:cNvGrpSpPr/>
              <p:nvPr/>
            </p:nvGrpSpPr>
            <p:grpSpPr>
              <a:xfrm>
                <a:off x="1747800" y="3232080"/>
                <a:ext cx="5081400" cy="2342160"/>
                <a:chOff x="1747800" y="3232080"/>
                <a:chExt cx="5081400" cy="2342160"/>
              </a:xfrm>
            </p:grpSpPr>
            <p:sp>
              <p:nvSpPr>
                <p:cNvPr id="1662" name="文本框 25616"/>
                <p:cNvSpPr/>
                <p:nvPr/>
              </p:nvSpPr>
              <p:spPr>
                <a:xfrm>
                  <a:off x="3697200" y="5041440"/>
                  <a:ext cx="151128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非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5.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3" name="文本框 25617"/>
                <p:cNvSpPr/>
                <p:nvPr/>
              </p:nvSpPr>
              <p:spPr>
                <a:xfrm>
                  <a:off x="4668840" y="3536640"/>
                  <a:ext cx="21603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亚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.8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4" name="文本框 25618"/>
                <p:cNvSpPr/>
                <p:nvPr/>
              </p:nvSpPr>
              <p:spPr>
                <a:xfrm>
                  <a:off x="3029040" y="3232080"/>
                  <a:ext cx="2160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大洋洲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.0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5" name="文本框 25619"/>
                <p:cNvSpPr/>
                <p:nvPr/>
              </p:nvSpPr>
              <p:spPr>
                <a:xfrm>
                  <a:off x="3533760" y="3346200"/>
                  <a:ext cx="216072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其他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.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6" name="文本框 25620"/>
                <p:cNvSpPr/>
                <p:nvPr/>
              </p:nvSpPr>
              <p:spPr>
                <a:xfrm>
                  <a:off x="2049480" y="3365280"/>
                  <a:ext cx="2160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拉丁美洲和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加勒比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.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文本框 25621"/>
                <p:cNvSpPr/>
                <p:nvPr/>
              </p:nvSpPr>
              <p:spPr>
                <a:xfrm>
                  <a:off x="1747800" y="4190760"/>
                  <a:ext cx="1008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欧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0.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668" name="矩形 25622"/>
            <p:cNvSpPr/>
            <p:nvPr/>
          </p:nvSpPr>
          <p:spPr>
            <a:xfrm>
              <a:off x="2471760" y="2589120"/>
              <a:ext cx="278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9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年中国对外援助资金地区分布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9" name="组合 25623"/>
          <p:cNvGrpSpPr/>
          <p:nvPr/>
        </p:nvGrpSpPr>
        <p:grpSpPr>
          <a:xfrm>
            <a:off x="2683440" y="2565360"/>
            <a:ext cx="2523240" cy="2474640"/>
            <a:chOff x="2683440" y="2565360"/>
            <a:chExt cx="2523240" cy="2474640"/>
          </a:xfrm>
        </p:grpSpPr>
        <p:grpSp>
          <p:nvGrpSpPr>
            <p:cNvPr id="1670" name="组合 25624"/>
            <p:cNvGrpSpPr/>
            <p:nvPr/>
          </p:nvGrpSpPr>
          <p:grpSpPr>
            <a:xfrm>
              <a:off x="3144600" y="3060720"/>
              <a:ext cx="2062080" cy="1979280"/>
              <a:chOff x="3144600" y="3060720"/>
              <a:chExt cx="2062080" cy="1979280"/>
            </a:xfrm>
          </p:grpSpPr>
          <p:pic>
            <p:nvPicPr>
              <p:cNvPr id="1671" name="图片 25625" descr="101"/>
              <p:cNvPicPr/>
              <p:nvPr/>
            </p:nvPicPr>
            <p:blipFill>
              <a:blip r:embed="rId3"/>
              <a:stretch/>
            </p:blipFill>
            <p:spPr>
              <a:xfrm>
                <a:off x="3144600" y="3060720"/>
                <a:ext cx="206208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2" name="矩形 25626"/>
              <p:cNvSpPr/>
              <p:nvPr/>
            </p:nvSpPr>
            <p:spPr>
              <a:xfrm>
                <a:off x="4368600" y="356364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幼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3.82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矩形 25627"/>
              <p:cNvSpPr/>
              <p:nvPr/>
            </p:nvSpPr>
            <p:spPr>
              <a:xfrm>
                <a:off x="3792240" y="435600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中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3.43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矩形 25628"/>
              <p:cNvSpPr/>
              <p:nvPr/>
            </p:nvSpPr>
            <p:spPr>
              <a:xfrm>
                <a:off x="3198600" y="37893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近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.82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5" name="矩形 25629"/>
              <p:cNvSpPr/>
              <p:nvPr/>
            </p:nvSpPr>
            <p:spPr>
              <a:xfrm>
                <a:off x="3331800" y="331452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成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03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6" name="矩形 25630"/>
              <p:cNvSpPr/>
              <p:nvPr/>
            </p:nvSpPr>
            <p:spPr>
              <a:xfrm>
                <a:off x="3695400" y="30891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过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.9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7" name="矩形 25631"/>
            <p:cNvSpPr/>
            <p:nvPr/>
          </p:nvSpPr>
          <p:spPr>
            <a:xfrm>
              <a:off x="2683440" y="256536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国乔木林各龄组的面积构成情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运用知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3"/>
          <p:cNvSpPr/>
          <p:nvPr/>
        </p:nvSpPr>
        <p:spPr>
          <a:xfrm>
            <a:off x="611280" y="15796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牛奶里含有丰富的营养成分，各种营养成分所占百分比如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1" name="TextBox 3"/>
          <p:cNvSpPr/>
          <p:nvPr/>
        </p:nvSpPr>
        <p:spPr>
          <a:xfrm>
            <a:off x="611280" y="5013360"/>
            <a:ext cx="35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每天喝一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牛奶，能补充每种营养成分各多少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2" name="TextBox 3"/>
          <p:cNvSpPr/>
          <p:nvPr/>
        </p:nvSpPr>
        <p:spPr>
          <a:xfrm>
            <a:off x="5154480" y="226044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水分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7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17.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3" name="TextBox 3"/>
          <p:cNvSpPr/>
          <p:nvPr/>
        </p:nvSpPr>
        <p:spPr>
          <a:xfrm>
            <a:off x="5154480" y="287820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蛋白质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3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.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4" name="TextBox 3"/>
          <p:cNvSpPr/>
          <p:nvPr/>
        </p:nvSpPr>
        <p:spPr>
          <a:xfrm>
            <a:off x="5154480" y="355608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脂肪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5" name="TextBox 3"/>
          <p:cNvSpPr/>
          <p:nvPr/>
        </p:nvSpPr>
        <p:spPr>
          <a:xfrm>
            <a:off x="5154480" y="423396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乳糖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.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5156280" y="4911840"/>
            <a:ext cx="39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他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7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87" name="图片 26633" descr="89"/>
          <p:cNvPicPr/>
          <p:nvPr/>
        </p:nvPicPr>
        <p:blipFill>
          <a:blip r:embed="rId1"/>
          <a:stretch/>
        </p:blipFill>
        <p:spPr>
          <a:xfrm>
            <a:off x="684360" y="2421000"/>
            <a:ext cx="408780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1:45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